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13.wmf" ContentType="image/x-wmf"/>
  <Override PartName="/ppt/media/image8.jpeg" ContentType="image/jpe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LOADS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dule of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Fourier Series LDC Approxi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040" y="1468440"/>
            <a:ext cx="80964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ion of LDC with a Fifth-Order Polyn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9600" y="1688760"/>
            <a:ext cx="7961400" cy="38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20680" indent="-2206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 =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+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defined in the interval [0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0)  =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2145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2145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1)  =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2145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under curve mu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the energy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dx  =  Load Factor 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98880" y="3051000"/>
          <a:ext cx="362448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8880" y="3051000"/>
                    <a:ext cx="362448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nputs to LOADSY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0160" y="1650960"/>
            <a:ext cx="8110440" cy="475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peak loads in MWe for a maximum of 3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peak load ratios for each year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of period peak lo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nnual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e ratio in ea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must be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362480" y="2700360"/>
          <a:ext cx="432432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2700360"/>
                    <a:ext cx="432432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nputs to LOADSY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0160" y="1650960"/>
            <a:ext cx="8110440" cy="475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duration curves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ressed as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-order polynomial with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stant coefficient of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-by-point descriptio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gives better fitting of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urier expansion of th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duration curv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ximum of 100 points per L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17960" y="3284640"/>
          <a:ext cx="342432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3284640"/>
                    <a:ext cx="342432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oadsy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8040" y="1482480"/>
            <a:ext cx="7326000" cy="49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ase B11 - pump storage, additional peak import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 100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717.2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53   0.943   0.848   0.722   0.517   0.523   0.502   0.484   0.628   0.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30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.0000    0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731    0.0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464    0.03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386    0.05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301    0.0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229    0.08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4573   1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Loadsy.d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755.0 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792.7 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830.4 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94   0.957   0.826   0.742   0.591   0.589   0.564   0.506   0.678   0.7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18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.0000    0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9540    0.0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0.5124   1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862.3 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04.6 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for Period Peak Load Ratio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nnual Peak 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60480" y="1531800"/>
          <a:ext cx="7250040" cy="49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531800"/>
                    <a:ext cx="7250040" cy="49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1071720" y="1665360"/>
            <a:ext cx="3060360" cy="2090520"/>
            <a:chOff x="1071720" y="1665360"/>
            <a:chExt cx="3060360" cy="2090520"/>
          </a:xfrm>
        </p:grpSpPr>
        <p:sp>
          <p:nvSpPr>
            <p:cNvPr id="114" name=""/>
            <p:cNvSpPr/>
            <p:nvPr/>
          </p:nvSpPr>
          <p:spPr>
            <a:xfrm flipH="1">
              <a:off x="1091520" y="1755720"/>
              <a:ext cx="3040200" cy="1928520"/>
            </a:xfrm>
            <a:prstGeom prst="wedgeRoundRectCallout">
              <a:avLst>
                <a:gd name="adj1" fmla="val 36055"/>
                <a:gd name="adj2" fmla="val 92958"/>
                <a:gd name="adj3" fmla="val 16667"/>
              </a:avLst>
            </a:prstGeom>
            <a:solidFill>
              <a:srgbClr val="ffffff">
                <a:alpha val="50000"/>
              </a:srgbClr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071720" y="1665360"/>
            <a:ext cx="3057480" cy="2090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1665360"/>
                      <a:ext cx="3057480" cy="20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"/>
          <p:cNvGrpSpPr/>
          <p:nvPr/>
        </p:nvGrpSpPr>
        <p:grpSpPr>
          <a:xfrm>
            <a:off x="4239720" y="3651120"/>
            <a:ext cx="3170880" cy="2173320"/>
            <a:chOff x="4239720" y="3651120"/>
            <a:chExt cx="3170880" cy="2173320"/>
          </a:xfrm>
        </p:grpSpPr>
        <p:sp>
          <p:nvSpPr>
            <p:cNvPr id="118" name=""/>
            <p:cNvSpPr/>
            <p:nvPr/>
          </p:nvSpPr>
          <p:spPr>
            <a:xfrm flipH="1" flipV="1">
              <a:off x="4239360" y="3709800"/>
              <a:ext cx="3170520" cy="2114640"/>
            </a:xfrm>
            <a:prstGeom prst="wedgeRoundRectCallout">
              <a:avLst>
                <a:gd name="adj1" fmla="val 32120"/>
                <a:gd name="adj2" fmla="val 62986"/>
                <a:gd name="adj3" fmla="val 16667"/>
              </a:avLst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4241880" y="3651120"/>
            <a:ext cx="3168720" cy="2166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41880" y="3651120"/>
                      <a:ext cx="3168720" cy="21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nputs to LOAD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9240" y="1695600"/>
            <a:ext cx="5960880" cy="397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eriods per year with a maximum of 12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osine terms to be used in the fourier approximation to the inverted L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536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: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5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Load duration cur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7840" y="1535040"/>
            <a:ext cx="824040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1550880"/>
          <a:ext cx="8074080" cy="48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550880"/>
                    <a:ext cx="80740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ological Hourly Loads are the Starting Point for Preparing the Input Data for LOAD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69800" y="1967040"/>
            <a:ext cx="2531880" cy="337320"/>
            <a:chOff x="1369800" y="1967040"/>
            <a:chExt cx="2531880" cy="337320"/>
          </a:xfrm>
        </p:grpSpPr>
        <p:sp>
          <p:nvSpPr>
            <p:cNvPr id="55" name=""/>
            <p:cNvSpPr/>
            <p:nvPr/>
          </p:nvSpPr>
          <p:spPr>
            <a:xfrm flipH="1">
              <a:off x="1369800" y="2276640"/>
              <a:ext cx="2531880" cy="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3960" y="1967040"/>
              <a:ext cx="119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eak 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369800" y="4549680"/>
            <a:ext cx="6275160" cy="337320"/>
            <a:chOff x="1369800" y="4549680"/>
            <a:chExt cx="6275160" cy="337320"/>
          </a:xfrm>
        </p:grpSpPr>
        <p:sp>
          <p:nvSpPr>
            <p:cNvPr id="58" name=""/>
            <p:cNvSpPr/>
            <p:nvPr/>
          </p:nvSpPr>
          <p:spPr>
            <a:xfrm flipH="1">
              <a:off x="1369800" y="4859280"/>
              <a:ext cx="627516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40480" y="454968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inimum 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Next Step, the Hourly Loads are Sorted and Displayed in a Load Duration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840" y="1417680"/>
          <a:ext cx="826272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417680"/>
                    <a:ext cx="82627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533960" y="1967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ea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69800" y="4549680"/>
            <a:ext cx="6654600" cy="337320"/>
            <a:chOff x="1369800" y="4549680"/>
            <a:chExt cx="6654600" cy="337320"/>
          </a:xfrm>
        </p:grpSpPr>
        <p:sp>
          <p:nvSpPr>
            <p:cNvPr id="65" name=""/>
            <p:cNvSpPr/>
            <p:nvPr/>
          </p:nvSpPr>
          <p:spPr>
            <a:xfrm flipH="1">
              <a:off x="1369800" y="4859280"/>
              <a:ext cx="665460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480" y="454968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inimum 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nal Step, the Load Du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ve is Norm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4840" y="1455840"/>
          <a:ext cx="8262720" cy="49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455840"/>
                    <a:ext cx="8262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1369800" y="4141800"/>
            <a:ext cx="6654600" cy="337320"/>
            <a:chOff x="1369800" y="4141800"/>
            <a:chExt cx="6654600" cy="337320"/>
          </a:xfrm>
        </p:grpSpPr>
        <p:sp>
          <p:nvSpPr>
            <p:cNvPr id="71" name=""/>
            <p:cNvSpPr/>
            <p:nvPr/>
          </p:nvSpPr>
          <p:spPr>
            <a:xfrm flipH="1">
              <a:off x="1369800" y="4451400"/>
              <a:ext cx="665460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40480" y="414180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inimum 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get hourly load data for the whole planning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simple way is to use load pattern from the past and multiply it with some annual growth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 : use MAED 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l for th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gy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nd) or similar model which can ana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tructure of energy de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A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30360" y="1712880"/>
            <a:ext cx="7984800" cy="4511880"/>
            <a:chOff x="630360" y="1712880"/>
            <a:chExt cx="7984800" cy="4511880"/>
          </a:xfrm>
        </p:grpSpPr>
        <p:grpSp>
          <p:nvGrpSpPr>
            <p:cNvPr id="77" name=""/>
            <p:cNvGrpSpPr/>
            <p:nvPr/>
          </p:nvGrpSpPr>
          <p:grpSpPr>
            <a:xfrm>
              <a:off x="630360" y="1712880"/>
              <a:ext cx="3143160" cy="3416400"/>
              <a:chOff x="630360" y="1712880"/>
              <a:chExt cx="3143160" cy="3416400"/>
            </a:xfrm>
          </p:grpSpPr>
          <p:sp>
            <p:nvSpPr>
              <p:cNvPr id="78" name=""/>
              <p:cNvSpPr/>
              <p:nvPr/>
            </p:nvSpPr>
            <p:spPr>
              <a:xfrm>
                <a:off x="1152720" y="1712880"/>
                <a:ext cx="1094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360" y="2217960"/>
                <a:ext cx="2363760" cy="28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68120" indent="-168120">
                  <a:lnSpc>
                    <a:spcPct val="90000"/>
                  </a:lnSpc>
                  <a:spcBef>
                    <a:spcPts val="601"/>
                  </a:spcBef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ergy sector data (energy balanc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>
                  <a:lnSpc>
                    <a:spcPct val="90000"/>
                  </a:lnSpc>
                  <a:spcBef>
                    <a:spcPts val="601"/>
                  </a:spcBef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cenario assump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515880" indent="-168120">
                  <a:lnSpc>
                    <a:spcPct val="90000"/>
                  </a:lnSpc>
                  <a:spcBef>
                    <a:spcPts val="524"/>
                  </a:spcBef>
                  <a:buClr>
                    <a:srgbClr val="0000ff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cio-econom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515880" indent="-168120">
                  <a:lnSpc>
                    <a:spcPct val="90000"/>
                  </a:lnSpc>
                  <a:spcBef>
                    <a:spcPts val="524"/>
                  </a:spcBef>
                  <a:buClr>
                    <a:srgbClr val="0000ff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chnolog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>
                  <a:lnSpc>
                    <a:spcPct val="90000"/>
                  </a:lnSpc>
                  <a:spcBef>
                    <a:spcPts val="601"/>
                  </a:spcBef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bstitutabl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ergy us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>
                  <a:lnSpc>
                    <a:spcPct val="90000"/>
                  </a:lnSpc>
                  <a:spcBef>
                    <a:spcPts val="601"/>
                  </a:spcBef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cess efficienc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>
                  <a:lnSpc>
                    <a:spcPct val="90000"/>
                  </a:lnSpc>
                  <a:spcBef>
                    <a:spcPts val="601"/>
                  </a:spcBef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urly load characterist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79720" y="3227400"/>
                <a:ext cx="793800" cy="596880"/>
              </a:xfrm>
              <a:prstGeom prst="rightArrow">
                <a:avLst>
                  <a:gd name="adj1" fmla="val 75000"/>
                  <a:gd name="adj2" fmla="val 66502"/>
                </a:avLst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6832" dir="7003641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0960" y="2130480"/>
                <a:ext cx="2174760" cy="2998800"/>
              </a:xfrm>
              <a:custGeom>
                <a:avLst/>
                <a:gdLst/>
                <a:ahLst/>
                <a:rect l="l" t="t" r="r" b="b"/>
                <a:pathLst>
                  <a:path w="1370" h="1889">
                    <a:moveTo>
                      <a:pt x="0" y="0"/>
                    </a:moveTo>
                    <a:lnTo>
                      <a:pt x="1369" y="0"/>
                    </a:lnTo>
                    <a:lnTo>
                      <a:pt x="1369" y="1888"/>
                    </a:lnTo>
                    <a:lnTo>
                      <a:pt x="0" y="1888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809880" y="2895480"/>
              <a:ext cx="1603440" cy="1220760"/>
              <a:chOff x="3809880" y="2895480"/>
              <a:chExt cx="1603440" cy="122076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>
                <a:lum bright="42000"/>
              </a:blip>
              <a:srcRect l="2587" t="2042" r="6572" b="1371"/>
              <a:stretch/>
            </p:blipFill>
            <p:spPr>
              <a:xfrm>
                <a:off x="3809880" y="2895480"/>
                <a:ext cx="1603440" cy="122076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4039560" y="3276360"/>
                <a:ext cx="10774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A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413320" y="1712880"/>
              <a:ext cx="3201840" cy="2923200"/>
              <a:chOff x="5413320" y="1712880"/>
              <a:chExt cx="3201840" cy="2923200"/>
            </a:xfrm>
          </p:grpSpPr>
          <p:sp>
            <p:nvSpPr>
              <p:cNvPr id="86" name=""/>
              <p:cNvSpPr/>
              <p:nvPr/>
            </p:nvSpPr>
            <p:spPr>
              <a:xfrm>
                <a:off x="6210720" y="1712880"/>
                <a:ext cx="1432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3320" y="3525480"/>
                <a:ext cx="762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01000" y="2595240"/>
                <a:ext cx="2414160" cy="20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inal energy dem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lectricity dem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urly electric 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4600" indent="-174600">
                  <a:lnSpc>
                    <a:spcPct val="100000"/>
                  </a:lnSpc>
                  <a:buClr>
                    <a:srgbClr val="0000ff"/>
                  </a:buClr>
                  <a:buSzPct val="60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oad duration curves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ELECTRI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77880" y="5311800"/>
              <a:ext cx="6034320" cy="912960"/>
            </a:xfrm>
            <a:prstGeom prst="wedgeRoundRectCallout">
              <a:avLst>
                <a:gd name="adj1" fmla="val 33083"/>
                <a:gd name="adj2" fmla="val -108259"/>
                <a:gd name="adj3" fmla="val 16667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ED is a model relating the energy demand to the set of social, economic and technological factors that influence this demand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LDC Approxi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eed for matematical aproximation of L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wo possibilities in W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by Fourier series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by fifth - order pol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28T18:29:13Z</dcterms:modified>
  <cp:revision>162</cp:revision>
  <dc:subject/>
  <dc:title>DYNPRO Module of WASP-IV</dc:title>
</cp:coreProperties>
</file>