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00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596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00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596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2000" y="616428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485280"/>
            <a:ext cx="831708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FIXSY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dule of WASP-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59280" y="4716360"/>
              <a:ext cx="121608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680" y="485280"/>
            <a:ext cx="82105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dro Plant Data Requirements in FIXSYS (cont’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6520" y="1533600"/>
            <a:ext cx="8167680" cy="48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ydro plants can also be easily added or removed by using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dd Pla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Remove Pla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&amp;M costs are entered at the group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d data for individual hydro project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ydro plant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alled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ervoir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ear of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specified for each period and hydrocond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flow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nimum generation (due to downstream water commit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verage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4872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dro Plant Data Requirements in FIXSYS - Pumped Storage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585440"/>
            <a:ext cx="8185320" cy="481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on of pumped storage hydro plants is a new feature of WASP-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mped storage plants are added and removed in the same manner as hydro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red data for pumped storage plant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alle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ear of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xed O&amp;M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cle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ta specified for each perio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mping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rating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um feasible energy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08480" y="3652920"/>
            <a:ext cx="33210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 Outputs Produced in FIX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0280" y="1776240"/>
            <a:ext cx="8120160" cy="455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XSYS Module outputs are stored in the file name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xsys.re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fter the module has been executed; the file can be accessed directly from WASP-IV user interface and viewed wit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ord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XSYS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giv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ata f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conomic loading order of existing thermal units, based on maximum load generation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rating characteristics of individual hydro projects (base and peaking capacity, peaking energy, peaking hours, operating mode) are calculated for each period and hydro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site hydro plants (by type) are generated by summing up the parameters of individua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PUT/OUTPUT files of FIX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687320"/>
            <a:ext cx="810576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data fi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sys.d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created from data provided by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SYS produces the following fil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plant.b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sysgl.w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sysgl.db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sys.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les can be accessed within the C\WASP-IV\Study_n\Case_m directory once the FIXSYS module has been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put data are entered or modified manually, they should be prepared exactly according to the format described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r’s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 of th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Fi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Sy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m Module (FIXS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6240" y="1832040"/>
            <a:ext cx="442908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ing into account cost and operating parameters of existing power generating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ing firmly scheduled unit additions and ret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ferring processed data to other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16680" y="2017800"/>
            <a:ext cx="343692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XSYS 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6520" y="159084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ames and short descriptions of up to 10 different thermal fuel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ames and descriptions of up to 2 hydro power plant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ames and related parameters for up to 88-NTHPL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VARSY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thermal power pl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ames and related parameters for individual hydro projects within the two hydro plant types and/or pumped storage projects (max. 30 projects in each categor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xed additions and retirements of the existing generating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limitations and pollutant emission parameters (new features of WASP-I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1200" y="485280"/>
            <a:ext cx="81835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mal Plant Data Requirements in FIX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6953040" cy="13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rmal plants are easily added to or removed from the list by clicking the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Add Plan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Remove Plan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ut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38880" y="1523880"/>
            <a:ext cx="1486080" cy="13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69000" y="4049640"/>
            <a:ext cx="3029040" cy="126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9960" y="2120760"/>
            <a:ext cx="678204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30040" indent="-230040">
              <a:spcBef>
                <a:spcPts val="55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quired thermal plants parameters inclu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t name (up to 4 ch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identical units at start of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nimum and maximum operating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t rates (at min. level and avg. incre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el type (from a pre-defined fuel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el cost (domestic and fore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xed and variable O&amp;M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d outage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inning reserve as percentage of unit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ys of required maintenance and maintenance class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225360">
              <a:spcBef>
                <a:spcPts val="4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t value of the fuel and pollutant emissio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600" y="485280"/>
            <a:ext cx="81295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mal Plant Data Requirements in FIXSYS (cont’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8520" y="1519200"/>
            <a:ext cx="8410680" cy="27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predetermined retirements and additions should be entered into the table which appears after clicking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dditions/Retirements of Thermal Pla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umber of units which are to be added/retired is entered into the appropriate cell for the plant and the year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rrect sign should be put in front of the number (+ for additions, – for ret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0" y="4284720"/>
            <a:ext cx="341928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mal Plant Data Requirements in FIXSYS - E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1815840"/>
            <a:ext cx="498168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case emission calculations are to be performed, the appropriate parameters should be entered for the considered thermal plant (fuel heat value, emission fa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indow which is opened after pressing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ton, the user can define groups of plants which produce a particular pollu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2695680" cy="2476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990880" cy="1218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848720" y="2514600"/>
            <a:ext cx="838080" cy="6094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mal Plant Data Requirements in FIXSYS - Group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0600" y="1550520"/>
            <a:ext cx="817236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rder to specify group limitations for thermal plants, the number of group limits (up to 5) should be entered first; after a non-zero number is entered, clicking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Group Limi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ton opens the data input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3040" y="3774960"/>
            <a:ext cx="3573360" cy="244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3051000"/>
            <a:ext cx="487044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group limit can be of one of five predefined types: fuel quantity, pollutant 1, pollutant 2, fuel heat value and electricit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c0128"/>
                </a:solidFill>
                <a:uFillTx/>
                <a:latin typeface="Times New Roman"/>
              </a:rPr>
              <a:t>All limits are on annual basis</a:t>
            </a:r>
            <a:r>
              <a:rPr b="0" lang="hr-HR" sz="2400" spc="-1" strike="noStrike" u="sng">
                <a:solidFill>
                  <a:srgbClr val="fc0128"/>
                </a:solidFill>
                <a:uFillTx/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this feature it is possible to simulate various real-lif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400" y="485280"/>
            <a:ext cx="79963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dro Plant Data Requirements in FIX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5760" y="1704960"/>
            <a:ext cx="8126280" cy="18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vidual hydro projects are integrated into max. two hydro plant groups, which can represent different hydro categories (e.g. run-of-river and storage pl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window for data related to hydro projects is shown after pressing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ydro/Pump Storage Pla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27440" y="4071960"/>
            <a:ext cx="3494160" cy="24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zeljko</cp:lastModifiedBy>
  <cp:lastPrinted>1999-06-16T14:58:10Z</cp:lastPrinted>
  <dcterms:modified xsi:type="dcterms:W3CDTF">2004-08-30T18:13:56Z</dcterms:modified>
  <cp:revision>157</cp:revision>
  <dc:subject/>
  <dc:title>DYNPRO Module of WASP-IV</dc:title>
</cp:coreProperties>
</file>