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VARSY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dule of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80503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 of th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abl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Sy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m Module (VARS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8760" y="1642680"/>
            <a:ext cx="4824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ing into account cost and operating parameters of the power plants to be considered as expansion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ferring processed data to oth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put is very similar to the one described in explanation of the FIXSYS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1906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485280"/>
            <a:ext cx="8237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mal Plant Data Requirements in VAR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4680" y="1616040"/>
            <a:ext cx="5976720" cy="37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mal plant data are entered and edited in the same way as in FIX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ximum number of different expansion candidates (unit types) is 12, unless pumped storage plants are defined (in that case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umber and type of group limitations has to be consistent with the definitions in FIXSYS; redefinition of group limitations is not possible in VAR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43720" y="2660760"/>
            <a:ext cx="209556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2640" y="485280"/>
            <a:ext cx="8183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 Plant Data Requirements in VAR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596600"/>
            <a:ext cx="430236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ith thermal plants, hydro plant data are also entered in the same way as in FIX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 to 30 projects can be defined within each hydro plant category (two composite hydro plants, pumped storage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hydro project, the first year in which the project is available has to be entered (unlike FIX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87504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tering Hydro Projects in VAR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1564920"/>
            <a:ext cx="827892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ce hydro projects compete against each other in the order they are entered, the criteria of economics and availability should be consider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33600" y="2538360"/>
          <a:ext cx="6966000" cy="152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538360"/>
                    <a:ext cx="69660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96800" y="3827520"/>
            <a:ext cx="82137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ume that the projects were entered in the following order:  A1  A2  A3  B1  B2; the projects would then compete in the following man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1 competes against B1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1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etes against B1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etes against B1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fore, it would be better to use the following entering order: A1  A2  A3  B2 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 Outputs Produced in VAR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5120" y="1666440"/>
            <a:ext cx="8029800" cy="47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e output is generated and viewed in the same way as in FIXSYS (filename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arsys.re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SYS determines the economic loading order of candidate thermal unit types, based on total full load unit gener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 characteristics (base and peaking capacity, peaking energy, peaking hours, operating mode) of individual hydro projects are calculated for each period and hydro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acteristics of composite hydro plants are generated by combining the individual parameters of all hydro projects of the sam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3080" y="485280"/>
            <a:ext cx="827388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hecking printout of FIXSYS and VAR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7800" y="1614240"/>
            <a:ext cx="8010720" cy="45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fter execution each of two modules the printouts should be checked with great care. Be shure that reported numbers are those intended by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21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ssible inconsistencies between FIXSYS and LOADSY, or between FIXSYS and VARSYS should be checked before going to the CONGEN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21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ome types of error (if exsist) will be printed in the printout files. If it will happen look the list of errors for each module in the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tot</cp:lastModifiedBy>
  <cp:lastPrinted>1999-06-16T14:58:10Z</cp:lastPrinted>
  <dcterms:modified xsi:type="dcterms:W3CDTF">2004-08-25T11:24:11Z</dcterms:modified>
  <cp:revision>153</cp:revision>
  <dc:subject/>
  <dc:title>DYNPRO Module of WASP-IV</dc:title>
</cp:coreProperties>
</file>