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485280"/>
            <a:ext cx="831708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RSIM Module of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ing Order In MERSI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se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ont’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9960" y="2212920"/>
            <a:ext cx="78645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36600" indent="-222120">
              <a:lnSpc>
                <a:spcPct val="125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load portion is indicated by adding 1000 to the number of base load 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25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WC = MWB (a single block unit), only base load portion number app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25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 plants automatically handled by the program (numbers 1 an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ing Order In MERSI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s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7360" y="1768320"/>
            <a:ext cx="797400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. calculated by MERSIM to satisfy spinning reserv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ning Reserve (S.R.) value given by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S.R. = A x (Largest Capacity Block Already Loade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+ B x (Period Peak 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, B, are coefficients and 0&lt;A&l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loading order given by user or passed by CONGEN (but  plants are represented by a single number and not base and peak as in case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 plants are handled auto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ing Order In MERSI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s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32040" y="2354400"/>
            <a:ext cx="75006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ase B, but Spinning Reserve is a constant value (in M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loading order given by user or passed by CONGEN (as in case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 plants are handled auto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1320" y="1978200"/>
            <a:ext cx="75358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SIM can produce three levels of output (printout op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158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158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158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also print FIXSYS and VARSYS inpu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7320" y="2165400"/>
            <a:ext cx="768024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6600" indent="-3366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Minimum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configurations with total opera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average annual LOLP with and without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not served for each hydro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2080" y="2297160"/>
            <a:ext cx="7680600" cy="22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6600" indent="-3366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Intermediat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annual costs (fuel and O&amp;M) by thermal “fuel” plant type for each hydro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9120" y="2401920"/>
            <a:ext cx="76816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6600" indent="-3366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Maximum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Loading Order calculations and results of simulations for each configuration, per period and hydro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ied Illustration of Treat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orced Ou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469880" y="1862280"/>
            <a:ext cx="6465600" cy="4221000"/>
            <a:chOff x="1469880" y="1862280"/>
            <a:chExt cx="6465600" cy="4221000"/>
          </a:xfrm>
        </p:grpSpPr>
        <p:sp>
          <p:nvSpPr>
            <p:cNvPr id="79" name=""/>
            <p:cNvSpPr/>
            <p:nvPr/>
          </p:nvSpPr>
          <p:spPr>
            <a:xfrm>
              <a:off x="1955880" y="1862280"/>
              <a:ext cx="5430600" cy="39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7280" y="4830840"/>
              <a:ext cx="332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7280" y="4481640"/>
              <a:ext cx="332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7280" y="4127400"/>
              <a:ext cx="30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7280" y="377676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97280" y="3422520"/>
              <a:ext cx="12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7280" y="30733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82880" y="2030400"/>
              <a:ext cx="0" cy="34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40040" y="55357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40040" y="51865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40040" y="483084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040" y="448164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40040" y="412740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0040" y="37767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40040" y="34225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40040" y="3073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40040" y="271944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40040" y="236844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0040" y="201600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9160" y="5186520"/>
              <a:ext cx="40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9160" y="5535720"/>
              <a:ext cx="47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882880" y="55022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551400" y="55022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221000" y="55022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900680" y="55022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70640" y="55022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238800" y="55022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9640" y="3078000"/>
              <a:ext cx="3372120" cy="1478160"/>
            </a:xfrm>
            <a:custGeom>
              <a:avLst/>
              <a:gdLst/>
              <a:ahLst/>
              <a:rect l="l" t="t" r="r" b="b"/>
              <a:pathLst>
                <a:path w="2124" h="931">
                  <a:moveTo>
                    <a:pt x="0" y="0"/>
                  </a:moveTo>
                  <a:lnTo>
                    <a:pt x="370" y="309"/>
                  </a:lnTo>
                  <a:lnTo>
                    <a:pt x="851" y="469"/>
                  </a:lnTo>
                  <a:lnTo>
                    <a:pt x="1280" y="559"/>
                  </a:lnTo>
                  <a:lnTo>
                    <a:pt x="1702" y="652"/>
                  </a:lnTo>
                  <a:lnTo>
                    <a:pt x="2123" y="930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7840" y="5197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7840" y="48434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7840" y="44942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7840" y="41385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7840" y="378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7840" y="3433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7840" y="3086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7840" y="2730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7840" y="2381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2600" y="2782800"/>
              <a:ext cx="3352680" cy="1768680"/>
            </a:xfrm>
            <a:custGeom>
              <a:avLst/>
              <a:gdLst/>
              <a:ahLst/>
              <a:rect l="l" t="t" r="r" b="b"/>
              <a:pathLst>
                <a:path w="2112" h="1114">
                  <a:moveTo>
                    <a:pt x="0" y="0"/>
                  </a:moveTo>
                  <a:lnTo>
                    <a:pt x="81" y="182"/>
                  </a:lnTo>
                  <a:lnTo>
                    <a:pt x="403" y="445"/>
                  </a:lnTo>
                  <a:lnTo>
                    <a:pt x="843" y="620"/>
                  </a:lnTo>
                  <a:lnTo>
                    <a:pt x="1253" y="702"/>
                  </a:lnTo>
                  <a:lnTo>
                    <a:pt x="1747" y="815"/>
                  </a:lnTo>
                  <a:lnTo>
                    <a:pt x="2111" y="1113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2600" y="2711520"/>
              <a:ext cx="3341520" cy="1536480"/>
            </a:xfrm>
            <a:custGeom>
              <a:avLst/>
              <a:gdLst/>
              <a:ahLst/>
              <a:rect l="l" t="t" r="r" b="b"/>
              <a:pathLst>
                <a:path w="2105" h="968">
                  <a:moveTo>
                    <a:pt x="0" y="0"/>
                  </a:moveTo>
                  <a:lnTo>
                    <a:pt x="226" y="128"/>
                  </a:lnTo>
                  <a:lnTo>
                    <a:pt x="444" y="330"/>
                  </a:lnTo>
                  <a:lnTo>
                    <a:pt x="953" y="484"/>
                  </a:lnTo>
                  <a:lnTo>
                    <a:pt x="1383" y="607"/>
                  </a:lnTo>
                  <a:lnTo>
                    <a:pt x="1698" y="669"/>
                  </a:lnTo>
                  <a:lnTo>
                    <a:pt x="2104" y="967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7360" y="5194440"/>
              <a:ext cx="18518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T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20% FORCED OUTAGE RAT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7280" y="4991040"/>
              <a:ext cx="7909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9560" y="5054760"/>
              <a:ext cx="31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19191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520056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9880" y="5216400"/>
              <a:ext cx="76392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W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38800" y="4268880"/>
              <a:ext cx="0" cy="253800"/>
            </a:xfrm>
            <a:prstGeom prst="line">
              <a:avLst/>
            </a:prstGeom>
            <a:ln w="25560">
              <a:solidFill>
                <a:srgbClr val="3300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54640" y="4591080"/>
              <a:ext cx="0" cy="91116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95520" y="1989000"/>
              <a:ext cx="236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D CURVE AS SE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Y UNITS 2-9 W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T 1 IS UNAVAIL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20% OF TIM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95920" y="1963800"/>
              <a:ext cx="4287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Arial"/>
                </a:rPr>
                <a:t>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5040" y="2185920"/>
              <a:ext cx="11365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(y - M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2360" y="2749680"/>
              <a:ext cx="31068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VALENT LOAD CU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EN OUTAGE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T 1 ARE INCLU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5440" y="2600280"/>
              <a:ext cx="4856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Arial"/>
                </a:rPr>
                <a:t>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9120" y="3308400"/>
              <a:ext cx="1836360" cy="8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 LOAD CURVE W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T 1 IS AVAIL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80% OF TIM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 = f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= f(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36800" y="1933560"/>
              <a:ext cx="763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3320" y="5527800"/>
              <a:ext cx="8125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      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66000" y="5659560"/>
              <a:ext cx="21733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 = f(x)   LOAD CU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= f(y)   INVERTED LOAD CU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44760" y="2563920"/>
              <a:ext cx="471600" cy="39996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792600" y="3195720"/>
              <a:ext cx="557280" cy="37296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944960" y="3668760"/>
              <a:ext cx="1122480" cy="28728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imate Equivalent Load Duration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87520" y="-1040760"/>
            <a:ext cx="12747600" cy="7413480"/>
            <a:chOff x="587520" y="-1040760"/>
            <a:chExt cx="12747600" cy="7413480"/>
          </a:xfrm>
        </p:grpSpPr>
        <p:sp>
          <p:nvSpPr>
            <p:cNvPr id="139" name=""/>
            <p:cNvSpPr/>
            <p:nvPr/>
          </p:nvSpPr>
          <p:spPr>
            <a:xfrm>
              <a:off x="1184400" y="1574640"/>
              <a:ext cx="110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W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2000" y="5778360"/>
              <a:ext cx="5448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1000" y="4849560"/>
              <a:ext cx="0" cy="878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1600" y="5973480"/>
              <a:ext cx="1488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 (frac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198720" y="4587120"/>
              <a:ext cx="2136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ALLED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680000">
              <a:off x="2546640" y="2536200"/>
              <a:ext cx="10752840" cy="222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0"/>
                  </a:moveTo>
                  <a:arcTo wR="10800" hR="10800" stAng="-5412180" swAng="5436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0"/>
                  </a:moveTo>
                  <a:arcTo wR="10800" hR="10800" stAng="-5412180" swAng="5436742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7627680" y="5028840"/>
              <a:ext cx="1679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INIMU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1324080" y="4583880"/>
              <a:ext cx="1228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AK 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53440" y="2588760"/>
              <a:ext cx="1325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REL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47520" y="4979880"/>
              <a:ext cx="3333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IC LOAD DURATION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80640" y="3093840"/>
              <a:ext cx="30099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c0128"/>
                  </a:solidFill>
                  <a:latin typeface="Arial"/>
                </a:rPr>
                <a:t>ULTIMATE EQUIVALENT LO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c0128"/>
                  </a:solidFill>
                  <a:latin typeface="Arial"/>
                </a:rPr>
                <a:t>DURATION CUR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90200" y="2568240"/>
              <a:ext cx="36669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OSS-OF-LOAD-PROBABILITY (LOLP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4920" y="1912680"/>
              <a:ext cx="2842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NERGY NOT SERVED (EN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87520" y="3681360"/>
              <a:ext cx="18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87520" y="1973160"/>
              <a:ext cx="18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1987200"/>
              <a:ext cx="0" cy="16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87520" y="5783040"/>
              <a:ext cx="18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468440" y="3094920"/>
              <a:ext cx="0" cy="27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22560" y="3670200"/>
              <a:ext cx="0" cy="21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92320" y="3116160"/>
              <a:ext cx="0" cy="2905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63840" y="597996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75560" y="6040440"/>
              <a:ext cx="72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L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03720" y="4719240"/>
              <a:ext cx="95256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179960" y="3431880"/>
              <a:ext cx="349200" cy="49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981520" y="2774880"/>
              <a:ext cx="46008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579400" y="2052360"/>
              <a:ext cx="5684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763720" y="2990520"/>
              <a:ext cx="162000" cy="8604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656080" y="2906640"/>
              <a:ext cx="241200" cy="16992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541240" y="2844720"/>
              <a:ext cx="304920" cy="22068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437920" y="2771640"/>
              <a:ext cx="360360" cy="26676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438280" y="2685960"/>
              <a:ext cx="317520" cy="23004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433240" y="2600280"/>
              <a:ext cx="274680" cy="19836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437920" y="2504880"/>
              <a:ext cx="233640" cy="16200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438280" y="2420640"/>
              <a:ext cx="216000" cy="14472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433240" y="2333520"/>
              <a:ext cx="187560" cy="11088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33600" y="2234880"/>
              <a:ext cx="162000" cy="9216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437920" y="2136600"/>
              <a:ext cx="142920" cy="7632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437920" y="2030400"/>
              <a:ext cx="142920" cy="7452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680000">
              <a:off x="2550600" y="-858960"/>
              <a:ext cx="10502280" cy="556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4" y="0"/>
                  </a:moveTo>
                  <a:arcTo wR="10800" hR="10800" stAng="-5411431" swAng="5436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4" y="0"/>
                  </a:moveTo>
                  <a:arcTo wR="10800" hR="10800" stAng="-5411431" swAng="5436947"/>
                </a:path>
              </a:pathLst>
            </a:custGeom>
            <a:noFill/>
            <a:ln cap="rnd"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74000" y="5783040"/>
              <a:ext cx="7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21520" y="4703760"/>
              <a:ext cx="7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4440" y="47401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74840" y="3089160"/>
              <a:ext cx="160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49440" y="1697040"/>
              <a:ext cx="0" cy="423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7800" y="2481120"/>
            <a:ext cx="768168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61880" indent="-461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pac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be greater than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ing units should not have high 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load units should not have low CFs (unless out for maintenance i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roduction to MERSIM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7800" y="2805120"/>
            <a:ext cx="75848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15880" indent="-51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s system operation for each configuration (state) and for each period in the year and each hydrological condition (merge and simul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2190600"/>
            <a:ext cx="768204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.  Energy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63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al to total generation plus unserved energy minus energy under L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63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ion of accuracy of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63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a small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MERSIM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84240" y="2297160"/>
            <a:ext cx="7359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.  Number of Fourier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6320">
              <a:lnSpc>
                <a:spcPct val="11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values of ENS and LOLP using 10, 20, and 30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6320">
              <a:lnSpc>
                <a:spcPct val="11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time needed for each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roduction to MERSIM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0640" y="2170080"/>
            <a:ext cx="791856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ERSIM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91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generated by each generating unit in each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91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91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91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 maintenan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91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LP (with mainten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91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not 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roduction to MERSIM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0920" y="2117880"/>
            <a:ext cx="63201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hodology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91960">
              <a:lnSpc>
                <a:spcPct val="14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91960">
              <a:lnSpc>
                <a:spcPct val="14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ning 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91960">
              <a:lnSpc>
                <a:spcPct val="14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91960">
              <a:lnSpc>
                <a:spcPct val="14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previous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s to MERSIM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960" y="2033640"/>
            <a:ext cx="7667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ning reserv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ourier Coefficients to be used for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imit by fue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consumption by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3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stock by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ng Loading Order in MERS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1040" y="2233440"/>
            <a:ext cx="7572240" cy="24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E A (Fixed L.O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47320">
              <a:lnSpc>
                <a:spcPct val="13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ecifies Loading Order, both for Base and Peak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47320">
              <a:lnSpc>
                <a:spcPct val="13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ning Reserve is 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ng Loading Order in MERS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7880" y="2041560"/>
            <a:ext cx="7904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E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23920">
              <a:lnSpc>
                <a:spcPct val="110000"/>
              </a:lnSpc>
              <a:spcBef>
                <a:spcPts val="9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. calculated by MERSIM to meet a specified spinning reserve criterion which is given by the user as a function of  the largest unit block already loaded and the period peak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23920">
              <a:lnSpc>
                <a:spcPct val="110000"/>
              </a:lnSpc>
              <a:spcBef>
                <a:spcPts val="9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ecifies a basic economic loading order, which MERSIM tries to respect and still satisfy reserve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ng Loading Order in MERS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240" y="2646360"/>
            <a:ext cx="78645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E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23920">
              <a:lnSpc>
                <a:spcPct val="145000"/>
              </a:lnSpc>
              <a:spcBef>
                <a:spcPts val="9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ase B before, but spinning reserve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ing Order In MERSI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s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3720" y="2389320"/>
            <a:ext cx="786456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ecifies both base and peak portion in L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 indent="-222120">
              <a:lnSpc>
                <a:spcPct val="115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load portion indicated by the number of corresponding plant from combined list of FIXSYS + VARSYS (Note: Thermal plants in FIXSYS begin with number 3, VARSYS plant numbers begin with number of last FIXSYS plant plu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tot</cp:lastModifiedBy>
  <cp:lastPrinted>1999-06-16T14:58:10Z</cp:lastPrinted>
  <dcterms:modified xsi:type="dcterms:W3CDTF">2004-08-25T11:23:16Z</dcterms:modified>
  <cp:revision>124</cp:revision>
  <dc:subject/>
  <dc:title>MERSIM Module of WASP-IV</dc:title>
</cp:coreProperties>
</file>