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200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5960" y="17049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804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200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5960" y="4048560"/>
            <a:ext cx="240336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485280"/>
            <a:ext cx="77724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3040" y="40485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8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3040" y="1704960"/>
            <a:ext cx="364248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8040" y="4048560"/>
            <a:ext cx="7464240" cy="21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78040" y="1704960"/>
            <a:ext cx="746424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8040" y="334800"/>
            <a:ext cx="8483760" cy="1062360"/>
          </a:xfrm>
          <a:prstGeom prst="roundRect">
            <a:avLst>
              <a:gd name="adj" fmla="val 7273"/>
            </a:avLst>
          </a:prstGeom>
          <a:solidFill>
            <a:srgbClr val="00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5440" y="1422360"/>
            <a:ext cx="8507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9200" y="339840"/>
            <a:ext cx="8483760" cy="6192720"/>
          </a:xfrm>
          <a:prstGeom prst="roundRect">
            <a:avLst>
              <a:gd name="adj" fmla="val 2486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52000" y="6164280"/>
            <a:ext cx="79200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CONGE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odule of WASP-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38600" y="1566720"/>
            <a:ext cx="3371760" cy="24177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433520" y="4100400"/>
            <a:ext cx="6310440" cy="2394360"/>
            <a:chOff x="1433520" y="4100400"/>
            <a:chExt cx="6310440" cy="2394360"/>
          </a:xfrm>
        </p:grpSpPr>
        <p:sp>
          <p:nvSpPr>
            <p:cNvPr id="45" name=""/>
            <p:cNvSpPr/>
            <p:nvPr/>
          </p:nvSpPr>
          <p:spPr>
            <a:xfrm>
              <a:off x="1433520" y="4100400"/>
              <a:ext cx="6310440" cy="23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laden Zeljko, 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900" spc="-1" strike="noStrike">
                  <a:solidFill>
                    <a:srgbClr val="000000"/>
                  </a:solidFill>
                  <a:latin typeface="Times New Roman"/>
                </a:rPr>
                <a:t>Head of E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nergy Generation and Conversion Depart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ergy Institute “Hrvoje Poža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el: +385 1 6326186  Fax: +385 1 604059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E-mail: mzeljko@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ww.eihp.h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959280" y="4716360"/>
              <a:ext cx="121608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89080" y="2033640"/>
            <a:ext cx="712620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3960" y="4712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 OUTPUT REPO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xed  Expansion Pl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88920" y="1884240"/>
            <a:ext cx="3248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6760" y="1697040"/>
            <a:ext cx="23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600" y="1695600"/>
            <a:ext cx="853884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DITIONS GOVERNING ALTERNATIVE GENERATION  *  *  *  *  *  *  YEAR 1985  *  *  *  *  *  *  *  *  *  *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INIMUM REQUIRED OF EACH ALTERNATIVE    0   0   0   0   0   1  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AXIMUM ADDITIONAL EACH  ALTERNATIVE    0   0   0   0   0   0  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SERVE RANGE PERMITTED IN CRITICAL PERIOD (%)    10.00   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CULATION OF CRITICAL PERIOD IS BASED ON HYDRO CONDITION 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OTAL CAPAC.                                                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ER    IN FIXSYS    --- THERMAL  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PUMPING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HYDRO 1  HYDRO 2 ---    PEAK 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        5930.8         3802.0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    300.0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78.8   1450.0          45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        5960.4         3802.0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    300.0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98.4   1460.0          42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        6012.2         3802.0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    300.0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20.2   1490.0          45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        6021.2         3802.0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    300.0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99.2   1520.0          50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RITICAL PERIOD IS  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PACITY RANGE IN CRITICAL PERIOD IS       5500.0          67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MMITTED CAPACITY SPECIFIED IN CRIT PERIOD        628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INIMUM NUMBER OF FOURIER COEFF. CORRESPONDING TO MAXIMUM RESERVE MARGIN IN CRIT PER IS   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ATE IC   CAP     ACCEPTED CONFIG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   1   6281.   0   0   0   0   0   1  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FIGURATIONS THIS YEAR            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FIGURATIONS THROUGH THIS YEAR    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  *  *  *  *  *  *  *  *  *  *  *  *  *  *  *  *  *  *  END OF YEAR 1985  *  *  *  *  *  *  *  *  *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89080" y="2033640"/>
            <a:ext cx="712620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: THE CONFIGURATION GENE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5440" y="2527200"/>
            <a:ext cx="5654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system configur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4040" y="3371760"/>
            <a:ext cx="7351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nfiguration is a shorthand representation of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 ad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LIG3    LIG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2010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0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1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0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2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0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0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9080" y="2033640"/>
            <a:ext cx="712620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000" y="1612440"/>
            <a:ext cx="82105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341280">
              <a:spcBef>
                <a:spcPts val="7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nerate a list of configurations that can meet future electricity demand, while satisfying certain constrai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3920" indent="-16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number of candidate technologies (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3920" indent="-16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installa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3920" indent="-16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nnel 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3920" indent="-16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3920" indent="-16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 availability (critical hydro cond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’S MAIN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8" dur="1" fill="hold"/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9" dur="1" fill="hold"/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40" dur="1" fill="hold"/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41" dur="1" fill="hold"/>
                                  <p:tgtEl>
                                    <p:spTgt spid="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9080" y="2033640"/>
            <a:ext cx="712620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25480" y="1871640"/>
            <a:ext cx="775512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files  from LOADSY, FIXSYS, and VARS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and maximum reserve marg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1280">
              <a:spcBef>
                <a:spcPts val="7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% of peak load in the critical perio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1280">
              <a:spcBef>
                <a:spcPts val="799"/>
              </a:spcBef>
              <a:buClr>
                <a:srgbClr val="114f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change during the study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 condition for which the critical period and reserve margins are calculated (usually the dry condi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’S DATA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82480" y="1711440"/>
            <a:ext cx="7994880" cy="47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number of new units that must be in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number of additional units that can be added by the program (tunnel wid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800" spc="-1" strike="noStrike">
                <a:solidFill>
                  <a:srgbClr val="114ffb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20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L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C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1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 1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2 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Tunnel Width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 1   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 2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2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2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 DATA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39200" y="1711440"/>
            <a:ext cx="8704440" cy="47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unnel widths define the maximum possible number of configurations available in a ye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Times New Roman"/>
              </a:rPr>
              <a:t>(e.g.,  2  X  3  X  3  X  2  X  3  X  2  =  216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114ff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onfigu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WASP III Plus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 per year, 3000 over the study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WASP IV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00 per year, 5000 over the study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42520" y="485280"/>
            <a:ext cx="802476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 DATA REQUIREMENTS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9080" y="1684440"/>
            <a:ext cx="712620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48800" y="1589040"/>
            <a:ext cx="775044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order of candidate pro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 Case with candidate pumped-storage proj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P IV MOD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089160"/>
            <a:ext cx="406404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08800" y="3089160"/>
            <a:ext cx="97452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03840" y="3087720"/>
            <a:ext cx="57816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8400" y="3247920"/>
            <a:ext cx="3072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Up to 11 thermal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4800" y="3137040"/>
            <a:ext cx="867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Up t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hyd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000" y="3135240"/>
            <a:ext cx="979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Pu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-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60" y="4127400"/>
            <a:ext cx="76946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Case without candidate pumped-storage proj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3360" y="4775040"/>
            <a:ext cx="468324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08560" y="4780080"/>
            <a:ext cx="974880" cy="0"/>
          </a:xfrm>
          <a:prstGeom prst="line">
            <a:avLst/>
          </a:prstGeom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18880" y="5040360"/>
            <a:ext cx="3072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Up to 12 thermal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76600" y="4818240"/>
            <a:ext cx="867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Up t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hyd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89080" y="2033640"/>
            <a:ext cx="712620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50880" y="1574640"/>
            <a:ext cx="5960880" cy="6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EXAMPLE Input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723960" y="485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 INPUT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1160" y="2097000"/>
            <a:ext cx="7372440" cy="39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11111111122222222223333333333444444444455555555556666666666777777777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3456789012345678901234567890123456789012345678901234567890123456789012345678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SE 96: CASE STUDY FOR THE WASP-IV USER'S MANUAL         1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.0      3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 0   0   0   0   1   0      {4 thermal plants, 2 hydro types, 1 P-S typ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 0   0   0   0   0   0      {4 thermal plants, 2 hydro types, 1 P-S typ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          (END OF 198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 0   0   0   1   1   0      {4 thermal plants, 2 hydro types, 1 P-S typ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          (END OF 198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89080" y="2033640"/>
            <a:ext cx="712620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640" y="485280"/>
            <a:ext cx="823608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 OUTPUT REPO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over P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8920" y="1884240"/>
            <a:ext cx="3248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6760" y="1697040"/>
            <a:ext cx="23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82840" y="1539720"/>
            <a:ext cx="690696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ASP  COMPUTER  PROGRAM  PACK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GEN  MO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SE  STU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SE 96: CASE STUDY FOR THE WASP-IV USER'S M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*********************************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               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LIST OF VAR. EXPAN. CANDIDATES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               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*********************************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               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THERMAL   PLANTS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               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SEQU.NUMBER       NAME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               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1            VCOA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2            VFOL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3            VNUC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4            V-GT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*********************************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               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HYDROELECTRIC PLANTS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               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SEQU.NUMBER       NAME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               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5            SHTS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6            LOTS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*********************************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               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PUMPED STORAGE PLANTS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               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SEQU.NUMBER       NAME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                 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           7            PUMP        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*************************************</a:t>
            </a:r>
            <a:r>
              <a:rPr b="1" lang="hr-HR" sz="9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9T09:34:06Z</dcterms:created>
  <dc:creator>Mladen Zeljko</dc:creator>
  <dc:description/>
  <dc:language>en-US</dc:language>
  <cp:lastModifiedBy>mzeljko</cp:lastModifiedBy>
  <cp:lastPrinted>1999-06-16T14:58:10Z</cp:lastPrinted>
  <dcterms:modified xsi:type="dcterms:W3CDTF">2004-08-31T18:52:37Z</dcterms:modified>
  <cp:revision>153</cp:revision>
  <dc:subject/>
  <dc:title>DYNPRO Module of WASP-IV</dc:title>
</cp:coreProperties>
</file>