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640" y="4116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7733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640" y="4116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6640" y="4116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5600" y="17733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7733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640" y="4116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5600" y="4116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4116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6640" y="17733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640" y="17733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640" y="4116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640" y="17733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6640" y="4116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6640" y="17733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640" y="4116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485280"/>
            <a:ext cx="831708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ASP-IV 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4052880" y="4784760"/>
              <a:ext cx="1216080" cy="555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xecution of WASP-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WASP–IV consists of several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he first three modules (LOADSY, FIXSYS and VARSYS) can be executed in any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ourth module (CONGEN) only after succesful execution of first three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fter CONGEN run, follows MERSIM and than DYNPRO mo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ycle CONGEN-MERSIM-DYNPRO usually needs a number of iteration for getting op.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n Case Data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675240" cy="3251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46424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of case-lev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ry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hould be taken for floating format inputs; a decimal must be giv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therwise some problems could app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more, after every input through the keyboard, the “Enter” key must be pressed to complete the entry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ADSY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89160" y="1521000"/>
            <a:ext cx="3886200" cy="332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85080" y="2768760"/>
            <a:ext cx="1809720" cy="3457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84120" y="3463920"/>
            <a:ext cx="26956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114800" y="4648320"/>
            <a:ext cx="2819160" cy="1065960"/>
            <a:chOff x="4114800" y="4648320"/>
            <a:chExt cx="2819160" cy="1065960"/>
          </a:xfrm>
        </p:grpSpPr>
        <p:sp>
          <p:nvSpPr>
            <p:cNvPr id="85" name=""/>
            <p:cNvSpPr/>
            <p:nvPr/>
          </p:nvSpPr>
          <p:spPr>
            <a:xfrm flipV="1" rot="5400000">
              <a:off x="5418000" y="4197960"/>
              <a:ext cx="212760" cy="2819160"/>
            </a:xfrm>
            <a:prstGeom prst="downArrow">
              <a:avLst>
                <a:gd name="adj1" fmla="val 50000"/>
                <a:gd name="adj2" fmla="val 331261"/>
              </a:avLst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5400000">
              <a:off x="3705120" y="5057280"/>
              <a:ext cx="959400" cy="14040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600200" y="2819880"/>
            <a:ext cx="1447920" cy="1065960"/>
            <a:chOff x="1600200" y="2819880"/>
            <a:chExt cx="1447920" cy="1065960"/>
          </a:xfrm>
        </p:grpSpPr>
        <p:sp>
          <p:nvSpPr>
            <p:cNvPr id="88" name=""/>
            <p:cNvSpPr/>
            <p:nvPr/>
          </p:nvSpPr>
          <p:spPr>
            <a:xfrm rot="16200000">
              <a:off x="2217600" y="2202120"/>
              <a:ext cx="212760" cy="1447920"/>
            </a:xfrm>
            <a:prstGeom prst="downArrow">
              <a:avLst>
                <a:gd name="adj1" fmla="val 50000"/>
                <a:gd name="adj2" fmla="val 170135"/>
              </a:avLst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156320" y="3369960"/>
              <a:ext cx="959400" cy="7200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XSYS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04804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343692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2741760" cy="176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3665520" cy="2536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24280" y="5791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2666880"/>
            <a:ext cx="380880" cy="2210040"/>
            <a:chOff x="4648320" y="2666880"/>
            <a:chExt cx="380880" cy="2210040"/>
          </a:xfrm>
        </p:grpSpPr>
        <p:sp>
          <p:nvSpPr>
            <p:cNvPr id="97" name=""/>
            <p:cNvSpPr/>
            <p:nvPr/>
          </p:nvSpPr>
          <p:spPr>
            <a:xfrm>
              <a:off x="4724280" y="266688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2705040"/>
              <a:ext cx="75960" cy="21718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981080" y="1905120"/>
            <a:ext cx="762120" cy="1523880"/>
            <a:chOff x="1981080" y="1905120"/>
            <a:chExt cx="762120" cy="1523880"/>
          </a:xfrm>
        </p:grpSpPr>
        <p:sp>
          <p:nvSpPr>
            <p:cNvPr id="100" name=""/>
            <p:cNvSpPr/>
            <p:nvPr/>
          </p:nvSpPr>
          <p:spPr>
            <a:xfrm>
              <a:off x="2590920" y="1905120"/>
              <a:ext cx="152280" cy="1523880"/>
            </a:xfrm>
            <a:prstGeom prst="downArrow">
              <a:avLst>
                <a:gd name="adj1" fmla="val 50000"/>
                <a:gd name="adj2" fmla="val 250177"/>
              </a:avLst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1905120"/>
              <a:ext cx="685800" cy="7596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RSYS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3190680" cy="364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252396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0400" y="21337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GE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68596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5220000" cy="422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22860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SIM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581200" cy="2619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5372280" cy="3162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26668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YNPRO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590920" cy="2524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4324320" cy="2705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43200" y="266688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ERSIM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686320" cy="260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2133720"/>
            <a:ext cx="3362400" cy="268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71800" y="27432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SP (Wien Automatic System Planning tool) is among the most useful and long lived models for power system expansion planning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inally developed in 1972 in order to meet IAEA’s needs to analyse competitiveness of nuclear power compared to other expansion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SP-III (1979) and WASP-III Plus (199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were DOS-based models, while WASP-IV includes a Windows-based user interface (apart from other enhancements and new model 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BA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838600" cy="300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451476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19520" y="22860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System of WASP-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files for providing input information, storing results/outputs and for passing information from one modul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put data files referred wit extension .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s/output files with extension .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information/results are stored in the files with extension .BIN and .W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modules produce files with extension .DBG for debugging purpo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ule Out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puts are produced as text files with the extension 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REPort), which can be viewed with the WordPad tool directly from WASP-IV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iew &lt;Module&gt; Outpu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3227400" cy="31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264168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 to modify, delete or rename any of the files copied by the installation program in the “C:\WASP-IV\SYSTEM” folder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ow to install WASP-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version of WASP-IV has a user interface which operates in the WINDOWS environm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-9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a higher version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ailable on th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standard MS-Office should also be avail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WordPad.ex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quired for on-screen viewing of the outputs of WASP-I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ow to install WASP-IV –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64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ould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l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either of two installation progra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ingle file installer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(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allation program using three diskettes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allation program will automatically copy all the necessary files to your hard disk drive C: in the sub directory named “WASP-IV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py the “wordpad.exe” file to the subdirectory “C:\WASP-IV\SYSEM” after completing the installation of the WASP-IV packa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olution of WASP 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80196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4844880" cy="361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2133720"/>
            <a:ext cx="3124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ASP-III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(DOS-based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267080"/>
            <a:ext cx="3581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ASP-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(Windows-based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38280" y="3886200"/>
            <a:ext cx="1360440" cy="1447920"/>
          </a:xfrm>
          <a:custGeom>
            <a:avLst/>
            <a:gdLst>
              <a:gd name="textAreaLeft" fmla="*/ 0 w 1360440"/>
              <a:gd name="textAreaRight" fmla="*/ 1360440 w 136044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SP Start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22520" y="1927080"/>
            <a:ext cx="4444920" cy="37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udy Selection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5329080" cy="2144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4646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indow for manipulating studies (opening, deleting, crea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study is assigned a separate folder in C:\WASP-IV, nam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udy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1666800" cy="13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Selection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4268520" cy="2147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3117960" cy="1573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6553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cases can be defined within a singl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case is assigned a separate subfolder within the corresponding study folder, nam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se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ses can be opened, created (based on previous cases), deleted, backed up (in form of packed archive files) or rest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162920" y="2286000"/>
            <a:ext cx="1542960" cy="16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ule Selection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94120" cy="3486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464240" cy="11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es are entered simply by clicking the appropri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zeljko</cp:lastModifiedBy>
  <cp:lastPrinted>1999-06-16T14:58:10Z</cp:lastPrinted>
  <dcterms:modified xsi:type="dcterms:W3CDTF">2004-08-29T09:09:35Z</dcterms:modified>
  <cp:revision>145</cp:revision>
  <dc:subject/>
  <dc:title>WASP-IV User Interface</dc:title>
</cp:coreProperties>
</file>