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00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596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804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00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596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485280"/>
            <a:ext cx="77724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040" y="334800"/>
            <a:ext cx="8483760" cy="1062360"/>
          </a:xfrm>
          <a:prstGeom prst="roundRect">
            <a:avLst>
              <a:gd name="adj" fmla="val 7273"/>
            </a:avLst>
          </a:prstGeom>
          <a:solidFill>
            <a:srgbClr val="00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5440" y="1422360"/>
            <a:ext cx="8507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9200" y="339840"/>
            <a:ext cx="8483760" cy="6192720"/>
          </a:xfrm>
          <a:prstGeom prst="roundRect">
            <a:avLst>
              <a:gd name="adj" fmla="val 2486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26440" y="6138720"/>
            <a:ext cx="79200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485280"/>
            <a:ext cx="8317080" cy="8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mped-Storage Hydro Representation in WASP-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8600" y="1566720"/>
            <a:ext cx="3371760" cy="24177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433520" y="4100400"/>
            <a:ext cx="6310440" cy="2394360"/>
            <a:chOff x="1433520" y="4100400"/>
            <a:chExt cx="6310440" cy="2394360"/>
          </a:xfrm>
        </p:grpSpPr>
        <p:sp>
          <p:nvSpPr>
            <p:cNvPr id="45" name=""/>
            <p:cNvSpPr/>
            <p:nvPr/>
          </p:nvSpPr>
          <p:spPr>
            <a:xfrm>
              <a:off x="1433520" y="4100400"/>
              <a:ext cx="631044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laden Zeljko, 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Head of E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nergy Generation and Conversion Depart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ergy Institute “Hrvoje Poža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el: +385 1 6326186  Fax: +385 1 604059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-mail: mzeljko@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ww.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959280" y="4716360"/>
              <a:ext cx="121608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awbacks of P-S Operation in WASP-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8040" y="2234880"/>
            <a:ext cx="7464240" cy="32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ycling operation of the P-S units (daily or weekly) is not taken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ossibility to use the available energy for pumping in one period in a subsequent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one P-S plants are treated as one composite P-S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38760" y="5272200"/>
            <a:ext cx="901800" cy="463320"/>
          </a:xfrm>
          <a:prstGeom prst="rightArrow">
            <a:avLst>
              <a:gd name="adj1" fmla="val 50000"/>
              <a:gd name="adj2" fmla="val 48660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ite Pump – Storage 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62160" y="1776240"/>
          <a:ext cx="2251080" cy="44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776240"/>
                    <a:ext cx="225108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700440" y="1981080"/>
            <a:ext cx="496440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Composite P-S plant pumping capacity (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= Composite P-S plant generating capacity (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= Composite P-S plant storage capacity (GW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Composite P-S plant pumping efficiency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Composite P-S plant generating efficiency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Composite P-S plant cycle efficiency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mped-Storage Hydro Power Pl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78040" y="2075040"/>
            <a:ext cx="7464240" cy="32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mped-storage plants save fuel cost by off-loading high cost peaking thermal units with hydro energy pumped to reservoir during low demand periods (night, weekend) using cost-efficient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mp storage plants are limited both in capacity and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ntional Hydro and P-S Plants in WASP-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10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e hydro plants HYDA &amp; HYDB are combined into a single composit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r composite hydro plant HYDA represents the generation side of pumped storag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A + HYDB ------&gt; HY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A ------&gt; P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-S plant is not active, composite hydro plants HYDA and HYDB are treated as in WASP II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mped-Storage Hydro Power Pl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75880" y="1519200"/>
            <a:ext cx="574524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mping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on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mping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ng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&amp;M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evaluation depend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s of 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 of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the gen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ability of each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ning cost of units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(fuel and variable O&amp;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mped-Storage Plants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78040" y="1915920"/>
            <a:ext cx="7464240" cy="42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lock of each thermal pl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program compu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g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can be replaced by the generation of the P-S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s available for pum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step-by-step procedure, pumping from the bottom and generating from the top of L.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largest amount of energy available for P-S operation is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mped-Storage Plants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 1: Compulsory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-S plant is dispatched as the last plant in the L.O. and its generating capacity is used for peak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mping is assigned to the lowest operation cost thermal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ode may be uneconomical, if it requires additional thermal generation for pumping duty without reducing the therm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mped-Storage Plants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7520" y="1757520"/>
            <a:ext cx="8020080" cy="44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 2: Economic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operation is only possible when sufficient pumping energy is available and cost of pumping water into reservoir is cheaper than the cost of thermal generation replaced by P-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perating cost of thermal uni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 used for pumping d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perating cost of thermal uni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 off-loaded by the P-S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114ffb"/>
              </a:buClr>
              <a:buFont typeface="Symbol" charset="2"/>
              <a:buChar char=""/>
              <a:tabLst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fficiency of pumping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ing Conditions of P-S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2280" y="1704960"/>
            <a:ext cx="778176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-S operation cycle is continued until one of the following conditions is reac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um P-S operation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ce available energy is not sufficient for minimum (compulsory) P-S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conomic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operation is not economic, the P-S dispatch st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ycle generation capability exhausted (pond cycle)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ce the P-S plant has been utilized to the extent of the specified pond (maximum) capacity (GWh/cy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8487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mped Storage Plant Data Requirements in FIXSYS  and VARS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mped Storage Plants window is accessed by clicking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ump Storage Pla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utton in Hydro Plants window of FIXSYS and VARSYS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vidual projects can easily be added or removed by using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dd Pla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emove Pla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quired data for pumped storage plant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alled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ear of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xed O&amp;M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ycle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ta specified for each perio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umping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nerating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ximum feasible energy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32240" y="3711600"/>
            <a:ext cx="35337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9T09:34:06Z</dcterms:created>
  <dc:creator>Mladen Zeljko</dc:creator>
  <dc:description/>
  <dc:language>en-US</dc:language>
  <cp:lastModifiedBy>mzeljko</cp:lastModifiedBy>
  <cp:lastPrinted>1999-06-16T14:58:10Z</cp:lastPrinted>
  <dcterms:modified xsi:type="dcterms:W3CDTF">2004-08-30T18:43:05Z</dcterms:modified>
  <cp:revision>173</cp:revision>
  <dc:subject/>
  <dc:title>Pumped-Storage Representation in WASP-IV</dc:title>
</cp:coreProperties>
</file>